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25.gif" ContentType="image/gif"/>
  <Override PartName="/ppt/media/image13.png" ContentType="image/png"/>
  <Override PartName="/ppt/media/image8.png" ContentType="image/png"/>
  <Override PartName="/ppt/media/image3.png" ContentType="image/png"/>
  <Override PartName="/ppt/media/image11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E5B-6A70-4844-9228-226137F8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6BF5-1324-403F-AAD0-A8C30FF9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1FD-2B5D-4ADA-BF00-83ACB0E3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6535-DFD4-4639-AA09-730FF59E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1642-417F-4934-94D0-D36C6C07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6E8B-1FBE-4632-83E6-712B0AAE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AA65-18C0-4A85-AD0B-28E8AA6E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1874-B001-4059-BF7B-2CBEBF67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753F-B771-47F0-AF2F-56A0F311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690D-719D-42A5-87B3-4EAC50D6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1ACC-DE3C-45D1-BBBA-8EBA629F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731-3B5A-4E53-A596-8B0313C2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41FB-24B5-42B9-97D1-76B66876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EE36-244B-4410-A2E1-4A397441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7915-6D89-46CE-8CA9-E1AEAF81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6ED1-24FF-415D-84BD-B12AFA77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F551-908C-4C85-AA98-040B05D7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00E-A488-4E5A-8CCE-9E91BCB7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896-E790-47B3-A8A8-6DB59A39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9FD-74D6-40C5-A6BB-BD07DD42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EED-F74E-436D-8447-66B9F42F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89C-14F3-41CD-A077-03E68253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37D-9A86-4E5E-8301-914E943C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8B7-D7C5-4599-873E-23B55350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68EB-11EA-43FB-96D8-58AEBD6DE254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C2DA-C34E-43F4-BE89-CA83B3DA467D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gif"/><Relationship Id="rId4" Type="http://schemas.openxmlformats.org/officeDocument/2006/relationships/slide" Target="slide11.xml"/><Relationship Id="rId5" Type="http://schemas.openxmlformats.org/officeDocument/2006/relationships/image" Target="../media/image2.gif"/><Relationship Id="rId6" Type="http://schemas.openxmlformats.org/officeDocument/2006/relationships/slide" Target="slide11.xml"/><Relationship Id="rId7" Type="http://schemas.openxmlformats.org/officeDocument/2006/relationships/image" Target="../media/image2.gif"/><Relationship Id="rId8" Type="http://schemas.openxmlformats.org/officeDocument/2006/relationships/slide" Target="slide11.xml"/><Relationship Id="rId9" Type="http://schemas.openxmlformats.org/officeDocument/2006/relationships/image" Target="../media/image2.gif"/><Relationship Id="rId10" Type="http://schemas.openxmlformats.org/officeDocument/2006/relationships/slide" Target="slide11.xml"/><Relationship Id="rId11" Type="http://schemas.openxmlformats.org/officeDocument/2006/relationships/image" Target="../media/image2.gif"/><Relationship Id="rId12" Type="http://schemas.openxmlformats.org/officeDocument/2006/relationships/slide" Target="slide11.xml"/><Relationship Id="rId13" Type="http://schemas.openxmlformats.org/officeDocument/2006/relationships/image" Target="../media/image2.gif"/><Relationship Id="rId14" Type="http://schemas.openxmlformats.org/officeDocument/2006/relationships/slide" Target="slide2.xml"/><Relationship Id="rId15" Type="http://schemas.openxmlformats.org/officeDocument/2006/relationships/slide" Target="slide8.xml"/><Relationship Id="rId16" Type="http://schemas.openxmlformats.org/officeDocument/2006/relationships/slide" Target="slide13.xml"/><Relationship Id="rId17" Type="http://schemas.openxmlformats.org/officeDocument/2006/relationships/image" Target="../media/image3.png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slide" Target="slide11.xml"/><Relationship Id="rId24" Type="http://schemas.openxmlformats.org/officeDocument/2006/relationships/image" Target="../media/image2.gif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79640" y="4724280"/>
            <a:ext cx="420840" cy="505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68360" y="4653000"/>
            <a:ext cx="632160" cy="647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987640" y="4724280"/>
            <a:ext cx="771480" cy="792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995640" y="4581360"/>
            <a:ext cx="1000080" cy="1027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32360" y="4437000"/>
            <a:ext cx="1351080" cy="1387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564000" y="4508640"/>
            <a:ext cx="431640" cy="720720"/>
          </a:xfrm>
          <a:custGeom>
            <a:avLst/>
            <a:gdLst/>
            <a:ahLst/>
            <a:rect l="l" t="t" r="r" b="b"/>
            <a:pathLst>
              <a:path w="544" h="952">
                <a:moveTo>
                  <a:pt x="0" y="952"/>
                </a:moveTo>
                <a:cubicBezTo>
                  <a:pt x="113" y="669"/>
                  <a:pt x="226" y="386"/>
                  <a:pt x="317" y="227"/>
                </a:cubicBezTo>
                <a:cubicBezTo>
                  <a:pt x="408" y="68"/>
                  <a:pt x="476" y="34"/>
                  <a:pt x="544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88000" y="4508640"/>
            <a:ext cx="360360" cy="731520"/>
          </a:xfrm>
          <a:custGeom>
            <a:avLst/>
            <a:gdLst/>
            <a:ahLst/>
            <a:rect l="l" t="t" r="r" b="b"/>
            <a:pathLst>
              <a:path w="182" h="597">
                <a:moveTo>
                  <a:pt x="0" y="590"/>
                </a:moveTo>
                <a:cubicBezTo>
                  <a:pt x="30" y="593"/>
                  <a:pt x="61" y="597"/>
                  <a:pt x="91" y="499"/>
                </a:cubicBezTo>
                <a:cubicBezTo>
                  <a:pt x="121" y="401"/>
                  <a:pt x="167" y="83"/>
                  <a:pt x="182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00360" y="4508640"/>
            <a:ext cx="358920" cy="576000"/>
          </a:xfrm>
          <a:custGeom>
            <a:avLst/>
            <a:gdLst/>
            <a:ahLst/>
            <a:rect l="l" t="t" r="r" b="b"/>
            <a:pathLst>
              <a:path w="363" h="726">
                <a:moveTo>
                  <a:pt x="0" y="726"/>
                </a:moveTo>
                <a:cubicBezTo>
                  <a:pt x="79" y="662"/>
                  <a:pt x="158" y="598"/>
                  <a:pt x="181" y="545"/>
                </a:cubicBezTo>
                <a:cubicBezTo>
                  <a:pt x="204" y="492"/>
                  <a:pt x="106" y="499"/>
                  <a:pt x="136" y="408"/>
                </a:cubicBezTo>
                <a:cubicBezTo>
                  <a:pt x="166" y="317"/>
                  <a:pt x="264" y="158"/>
                  <a:pt x="363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2000" y="4653000"/>
            <a:ext cx="360360" cy="647640"/>
          </a:xfrm>
          <a:custGeom>
            <a:avLst/>
            <a:gdLst/>
            <a:ahLst/>
            <a:rect l="l" t="t" r="r" b="b"/>
            <a:pathLst>
              <a:path w="265" h="590">
                <a:moveTo>
                  <a:pt x="38" y="590"/>
                </a:moveTo>
                <a:cubicBezTo>
                  <a:pt x="19" y="548"/>
                  <a:pt x="0" y="506"/>
                  <a:pt x="38" y="408"/>
                </a:cubicBezTo>
                <a:cubicBezTo>
                  <a:pt x="76" y="310"/>
                  <a:pt x="170" y="155"/>
                  <a:pt x="265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66920" y="4581360"/>
            <a:ext cx="144360" cy="432000"/>
          </a:xfrm>
          <a:custGeom>
            <a:avLst/>
            <a:gdLst/>
            <a:ahLst/>
            <a:rect l="l" t="t" r="r" b="b"/>
            <a:pathLst>
              <a:path w="363" h="317">
                <a:moveTo>
                  <a:pt x="0" y="317"/>
                </a:moveTo>
                <a:cubicBezTo>
                  <a:pt x="60" y="275"/>
                  <a:pt x="121" y="234"/>
                  <a:pt x="182" y="181"/>
                </a:cubicBezTo>
                <a:cubicBezTo>
                  <a:pt x="243" y="128"/>
                  <a:pt x="303" y="64"/>
                  <a:pt x="363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43640" y="4508640"/>
            <a:ext cx="1800360" cy="1584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7885080" y="4581360"/>
            <a:ext cx="216000" cy="935280"/>
          </a:xfrm>
          <a:custGeom>
            <a:avLst/>
            <a:gdLst/>
            <a:ahLst/>
            <a:rect l="l" t="t" r="r" b="b"/>
            <a:pathLst>
              <a:path w="181" h="771">
                <a:moveTo>
                  <a:pt x="0" y="771"/>
                </a:moveTo>
                <a:cubicBezTo>
                  <a:pt x="53" y="721"/>
                  <a:pt x="106" y="672"/>
                  <a:pt x="136" y="544"/>
                </a:cubicBezTo>
                <a:cubicBezTo>
                  <a:pt x="166" y="416"/>
                  <a:pt x="173" y="91"/>
                  <a:pt x="181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>
            <a:hlinkClick r:id="rId14" action="ppaction://hlinksldjump"/>
          </p:cNvPr>
          <p:cNvSpPr/>
          <p:nvPr/>
        </p:nvSpPr>
        <p:spPr>
          <a:xfrm>
            <a:off x="7308720" y="3284640"/>
            <a:ext cx="1835280" cy="1058760"/>
          </a:xfrm>
          <a:prstGeom prst="wedgeEllipseCallout">
            <a:avLst>
              <a:gd name="adj1" fmla="val -7699"/>
              <a:gd name="adj2" fmla="val 74287"/>
            </a:avLst>
          </a:prstGeom>
          <a:solidFill>
            <a:srgbClr val="e43c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>
            <a:hlinkClick r:id="rId15" action="ppaction://hlinksldjump"/>
          </p:cNvPr>
          <p:cNvSpPr/>
          <p:nvPr/>
        </p:nvSpPr>
        <p:spPr>
          <a:xfrm>
            <a:off x="3851280" y="4149720"/>
            <a:ext cx="649440" cy="431640"/>
          </a:xfrm>
          <a:prstGeom prst="wedgeEllipseCallout">
            <a:avLst>
              <a:gd name="adj1" fmla="val -39731"/>
              <a:gd name="adj2" fmla="val 50365"/>
            </a:avLst>
          </a:prstGeom>
          <a:solidFill>
            <a:srgbClr val="f6f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16" action="ppaction://hlinksldjump"/>
          </p:cNvPr>
          <p:cNvSpPr/>
          <p:nvPr/>
        </p:nvSpPr>
        <p:spPr>
          <a:xfrm>
            <a:off x="4859280" y="4437000"/>
            <a:ext cx="720720" cy="503280"/>
          </a:xfrm>
          <a:prstGeom prst="wedgeEllipseCallout">
            <a:avLst>
              <a:gd name="adj1" fmla="val -20263"/>
              <a:gd name="adj2" fmla="val 55046"/>
            </a:avLst>
          </a:prstGeom>
          <a:solidFill>
            <a:srgbClr val="1a7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3933720"/>
            <a:ext cx="1081080" cy="625680"/>
          </a:xfrm>
          <a:prstGeom prst="wedgeEllipseCallout">
            <a:avLst>
              <a:gd name="adj1" fmla="val -8148"/>
              <a:gd name="adj2" fmla="val 73097"/>
            </a:avLst>
          </a:prstGeom>
          <a:solidFill>
            <a:srgbClr val="4bf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5640" y="4292640"/>
            <a:ext cx="504720" cy="266760"/>
          </a:xfrm>
          <a:prstGeom prst="wedgeEllipseCallout">
            <a:avLst>
              <a:gd name="adj1" fmla="val -12893"/>
              <a:gd name="adj2" fmla="val 9404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700360" y="4221000"/>
            <a:ext cx="719280" cy="266760"/>
          </a:xfrm>
          <a:prstGeom prst="wedgeEllipseCallout">
            <a:avLst>
              <a:gd name="adj1" fmla="val 111"/>
              <a:gd name="adj2" fmla="val 73810"/>
            </a:avLst>
          </a:prstGeom>
          <a:solidFill>
            <a:srgbClr val="a1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7"/>
          <a:stretch/>
        </p:blipFill>
        <p:spPr>
          <a:xfrm>
            <a:off x="5580000" y="189000"/>
            <a:ext cx="2286000" cy="1220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524720" y="35481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110"/>
                </a:solidFill>
                <a:latin typeface="Times New Roman"/>
                <a:ea typeface="华文隶书"/>
              </a:rPr>
              <a:t>Follow me</a:t>
            </a:r>
            <a:r>
              <a:rPr b="0" lang="en-US" sz="2400" spc="-1" strike="noStrike">
                <a:solidFill>
                  <a:srgbClr val="f6f110"/>
                </a:solidFill>
                <a:latin typeface="华文隶书"/>
                <a:ea typeface="华文隶书"/>
              </a:rPr>
              <a:t>!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450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Song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9640" y="620640"/>
            <a:ext cx="50292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63006"/>
                    </a:gs>
                    <a:gs pos="100000">
                      <a:srgbClr val="1a75d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63006"/>
                    </a:gs>
                    <a:gs pos="100000">
                      <a:srgbClr val="1a75d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Unit 1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b63006"/>
                  </a:gs>
                  <a:gs pos="100000">
                    <a:srgbClr val="1a75d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Che"/>
              <a:ea typeface="GulimCh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b63006"/>
                  </a:gs>
                  <a:gs pos="100000">
                    <a:srgbClr val="1a75d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Che"/>
              <a:ea typeface="GulimCh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63006"/>
                    </a:gs>
                    <a:gs pos="100000">
                      <a:srgbClr val="1a75d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My name's Gina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b63006"/>
                  </a:gs>
                  <a:gs pos="100000">
                    <a:srgbClr val="1a75d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Che"/>
              <a:ea typeface="GulimChe"/>
            </a:endParaRPr>
          </a:p>
        </p:txBody>
      </p:sp>
      <p:sp>
        <p:nvSpPr>
          <p:cNvPr id="372" name=""/>
          <p:cNvSpPr/>
          <p:nvPr/>
        </p:nvSpPr>
        <p:spPr>
          <a:xfrm>
            <a:off x="6012000" y="40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51280" y="4214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20f0"/>
                </a:solidFill>
                <a:latin typeface="Times New Roman"/>
              </a:rPr>
              <a:t>Know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00360" y="4149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20f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420f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50920" y="42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20f0"/>
                </a:solidFill>
                <a:latin typeface="Times New Roman"/>
              </a:rPr>
              <a:t>Smart</a:t>
            </a:r>
            <a:r>
              <a:rPr b="0" lang="en-US" sz="1800" spc="-1" strike="noStrike">
                <a:solidFill>
                  <a:srgbClr val="0420f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8"/>
          <a:stretch/>
        </p:blipFill>
        <p:spPr>
          <a:xfrm>
            <a:off x="324000" y="6021360"/>
            <a:ext cx="609480" cy="5461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9"/>
          <a:stretch/>
        </p:blipFill>
        <p:spPr>
          <a:xfrm>
            <a:off x="5580000" y="6405480"/>
            <a:ext cx="504720" cy="4525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0"/>
          <a:stretch/>
        </p:blipFill>
        <p:spPr>
          <a:xfrm>
            <a:off x="5076720" y="6248520"/>
            <a:ext cx="681120" cy="609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1"/>
          <a:stretch/>
        </p:blipFill>
        <p:spPr>
          <a:xfrm>
            <a:off x="7812000" y="6405480"/>
            <a:ext cx="505080" cy="452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2"/>
          <a:stretch/>
        </p:blipFill>
        <p:spPr>
          <a:xfrm>
            <a:off x="0" y="5084640"/>
            <a:ext cx="609480" cy="546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1835280" y="4941720"/>
            <a:ext cx="241200" cy="2890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479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568680" cy="29196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4140360" y="1249200"/>
            <a:ext cx="3639960" cy="29782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611280" y="4114800"/>
            <a:ext cx="3497040" cy="27432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4211640" y="4076640"/>
            <a:ext cx="3529080" cy="28875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539640" y="333360"/>
            <a:ext cx="388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华文隶书"/>
                <a:ea typeface="华文隶书"/>
              </a:rPr>
              <a:t>看看下面的名人，猜猜看，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华文隶书"/>
                <a:ea typeface="华文隶书"/>
              </a:rPr>
              <a:t>他们姓什么， 叫什么 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207280" y="5805360"/>
            <a:ext cx="936720" cy="405000"/>
          </a:xfrm>
          <a:custGeom>
            <a:avLst/>
            <a:gdLst>
              <a:gd name="textAreaLeft" fmla="*/ 144360 w 936720"/>
              <a:gd name="textAreaRight" fmla="*/ 698400 w 936720"/>
              <a:gd name="textAreaTop" fmla="*/ 54000 h 405000"/>
              <a:gd name="textAreaBottom" fmla="*/ 35100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5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3457800" cy="28288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4356000" y="38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11280" y="40464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  <a:ea typeface="华文隶书"/>
              </a:rPr>
              <a:t>你认识他们吗？他们又姓什么、叫什么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4356000" y="98100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5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042920" y="1542960"/>
            <a:ext cx="7632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Jenny  [`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eni ] 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        Gina [`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i:n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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Alan    [`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l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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n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Mary [`m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ri]  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Jim      [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im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Tony  [`touni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Tom    [t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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m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Bob    [b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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b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Mike    [maik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Green [gri:n] 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Miller   [`mil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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 Jack [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k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Smith   [smi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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   Brown [braun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Linda   [`lin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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]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Nick    [nik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Kim      [kim] ]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Hand [h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nd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00000" y="692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b4978"/>
                </a:solidFill>
                <a:latin typeface="Tahoma"/>
                <a:ea typeface="隶书"/>
              </a:rPr>
              <a:t>请为自己挑选一个自己喜欢的名、姓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228600"/>
            <a:ext cx="914400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. family name / last name , first name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一个中国人的名字是“张小辰”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amily name / last name (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姓氏）       是“张”，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given name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（名字）是  “小辰”；另一个英文名字“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ark Alan Smith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amily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是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Smith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iddle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是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Alan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irst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是 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ark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irst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与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iddle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合称为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given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寒暄语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在英语国家中，人们比较注重见面时的寒暄和打招呼，与我们的习惯非常接近。人们在出次见面时常用的问候语有：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How do you do ?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有时在引见之后为了显得比较亲切自然，也可以说：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How are you ? How are you doing ? How are you getting along ?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等。它们的答语要认真地区分开。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A: How do you do ?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          B: How do you do ?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A: How are you ?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B: Fine , thank you .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见到熟人或朋友时也可以说得比较随意，简单地说“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Hello” “Hi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都是可以的。另外，人们见面时也经常说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Nice to meet you .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意思是“见到你很高兴”，答语是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Nice to meet you , too .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特别注意的是大家在道别时也可以说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Nice meeting you .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意思是“见到您真是太好了” “ 再见”。两个句子看起来非常接近，但是使用的场合完全不同，意思也完全相反。请不要误用。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08000" y="260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隶书"/>
              </a:rPr>
              <a:t>引航精灵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隶书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6793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“ be 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动词的使用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在一般现在时中“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 ”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有三种表达形式，它们分别是“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m , is 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”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意思是“ 是” ， 表示“ 对人或事物的判断或说明 ”，在处理主谓一致关系时，我们要注意以下几点：“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m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与主语“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搭配使用， “ 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is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可以与第三人称单数主语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he , she , it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单数名词、动名词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及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不可数名词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一起使用；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are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与其他人称代词形成的主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we 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you , they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复数名词主语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一起使用。在形成疑问句时要将“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 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动词放置在该句的主语之前，如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s this your pen ?  Are you Mary ?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在构造特殊疑问句时，将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置于特殊疑问词之后、主语之前，如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( What is )his telephone number ?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他的电话号码是多少？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以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s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形式出现，是因为句中的主语“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his telephone number 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是一个单数名词短语，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s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被置于特殊疑问词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之后，主语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his telephone number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之前。再如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’m Gina .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我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Gina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以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m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形式出现，是因为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是配合主语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来表示判断说明能力的。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’m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是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 am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缩写形式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52280" y="152280"/>
            <a:ext cx="8991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Behind the Text 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英语姓名简释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 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英语姓名的一般结构为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first name/given nam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（名）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, last name/family name/surnam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（姓）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为婴儿命名是父母对儿女、对家族的未来表示祝愿、寄托希望的一种方式、一种机会。按照英语国家民族的习俗，一般在婴儿受洗礼时，由牧师或父母亲朋为其命名。英语姓氏主要有以下几个来源：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直接借用教名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dam,Henry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在教名上附加表示血统承袭关系的词缀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Johnson,McDonald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反映地名、地貌或环境特征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London,Brook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反映身份或职业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Carter,Smith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5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反映个性特征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lack,Longfellow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6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借用动、植物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ird,Ric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7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双姓合成构词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urne-Jone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在美国，绝大多数情况下随父姓，但也有孩子的姓是父姓和母姓连用的。比如：孩子的名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homa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母亲的姓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Jone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名为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ara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父亲的姓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mith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名为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John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那么，孩子的全名就叫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homas Smith-Jone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95280" y="2133720"/>
            <a:ext cx="87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　你听说过美国的十大姓氏吗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　在美国， 万人以上的大姓有三千多个，其中最大的姓氏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mith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 美国十大姓氏的排列顺序是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mith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史密斯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2. John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约翰逊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3. Williams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威廉姆斯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4.  Brown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布朗  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5.  Jones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琼斯    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6. Miller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米勒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Davis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戴维斯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8.  Martinson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马丁森 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9.  Anderson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安德森                         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10 .Wilson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威尔逊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71640" y="981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3c08"/>
                </a:solidFill>
                <a:latin typeface="Arial"/>
                <a:ea typeface="华文行楷"/>
              </a:rPr>
              <a:t>文化茶座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9280" y="1268280"/>
            <a:ext cx="8964720" cy="53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幸运数字：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8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eigh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家庭楼层：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5 fiv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家庭电话：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4916888    four  nine one six  eight eight eight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ＱＱ号：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552413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five five two four one three nin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最喜欢的球星的球衣号：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23               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twenty -thre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生活中有很多和自己相关的数字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如年龄、身高、体重、住址、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QQ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号、公交车等，请收集有关自己的数字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480960"/>
            <a:ext cx="9144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疑问代词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what”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它的意思是“什么”，既可以用来提问“物品、东西”等，也可以用来询问“行为、动作”，还可以询问“人们的职业”，另外它还可以在将来学习中遇到的名词性从句中充当连接词，作用是非常多的。本单元要求掌握对“姓名、电话号码”的提问中使用特殊疑问词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例如：●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 name ?   My name is Tory .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你叫什么？我的名字叫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ory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 ●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his telephone number ?   His telephone number is 0373-4916473.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他的电话号码是多少？  他的电话号码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0373-4916473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此外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this in English ?  It’s a pen .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 telephone number / phone number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该短语的意思是“电话号码”，是一个可数名词短语，要注意在实际应用中它的单复数形式的变化，有可能会影响到句子中谓语动词的结构。同时，也可以说成，两者之间没有区别。例如：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How many telephone numbers are in your notebook ?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你的笔记本中有多少电话号码？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 phone number ?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您的电话号码是什么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71640" y="0"/>
            <a:ext cx="1584360" cy="581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隶书"/>
              </a:rPr>
              <a:t>精灵豆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68360" y="549360"/>
            <a:ext cx="20160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生活链接一</a:t>
            </a: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611280" y="411480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4643280" y="126828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4716360" y="411480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3773"/>
              <a:gd name="adj2" fmla="val 6031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207280" y="5877000"/>
            <a:ext cx="936720" cy="404640"/>
          </a:xfrm>
          <a:custGeom>
            <a:avLst/>
            <a:gdLst>
              <a:gd name="textAreaLeft" fmla="*/ 144360 w 936720"/>
              <a:gd name="textAreaRight" fmla="*/ 698400 w 93672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4920" y="396720"/>
            <a:ext cx="8839080" cy="45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Unit 1                                                           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03"/>
                </a:solidFill>
                <a:latin typeface="Times New Roman"/>
              </a:rPr>
              <a:t>Language Goal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 this unit you should learn to introduce yourself , greet people , ask and give telephone numbers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03"/>
                </a:solidFill>
                <a:latin typeface="Times New Roman"/>
              </a:rPr>
              <a:t>New Language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What’s your name ?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My name is ……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Nice to meet you , what’s your phone number 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Nice to meet you , too . My phone number is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48360" y="5084640"/>
            <a:ext cx="1752480" cy="8636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11280" y="5084640"/>
            <a:ext cx="1752840" cy="9115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64000" y="5300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" action="ppaction://hlinksldjump"/>
              </a:rPr>
              <a:t>Section B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56000" y="5300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" action="ppaction://hlinksldjump"/>
              </a:rPr>
              <a:t>Section A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3773"/>
              <a:gd name="adj2" fmla="val 6031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658800"/>
            <a:ext cx="25196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生活链接　二</a:t>
            </a: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16000" y="1628640"/>
            <a:ext cx="6696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请认真体会下列会话，想一想他们在干什么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: Hello! 5544880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: Hello! This is Tong. Who’s that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: This is Peter, Tong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: Peter, can you come and play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: OK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042920" y="1125360"/>
            <a:ext cx="266400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f747"/>
                </a:solidFill>
                <a:latin typeface="Times New Roman"/>
                <a:ea typeface="华文隶书"/>
              </a:rPr>
              <a:t>实践活动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6920" y="2781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请分析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Thomas Alva Edison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Mao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中宋"/>
              </a:rPr>
              <a:t>Zedong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这两个人物名。想一想，应该在哪个名字前加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Mr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才是正常的说法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9675"/>
              <a:gd name="adj2" fmla="val 93805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3773"/>
              <a:gd name="adj2" fmla="val 6031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42920" y="1125360"/>
            <a:ext cx="24494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f747"/>
                </a:solidFill>
                <a:latin typeface="Times New Roman"/>
                <a:ea typeface="华文隶书"/>
              </a:rPr>
              <a:t>合作探究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26920" y="2133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请同学们相互用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 /his / her phone number?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提问，然后建立班级同学的电话簿。可采用这种格式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826920" y="3357720"/>
          <a:ext cx="7632720" cy="1946160"/>
        </p:xfrm>
        <a:graphic>
          <a:graphicData uri="http://schemas.openxmlformats.org/drawingml/2006/table">
            <a:tbl>
              <a:tblPr/>
              <a:tblGrid>
                <a:gridCol w="1440000"/>
                <a:gridCol w="1152360"/>
                <a:gridCol w="1008360"/>
                <a:gridCol w="1008000"/>
                <a:gridCol w="1224000"/>
                <a:gridCol w="863640"/>
                <a:gridCol w="9363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am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L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g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hone numbe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468360" y="620640"/>
            <a:ext cx="208908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e103"/>
                </a:solidFill>
                <a:latin typeface="Arial Black"/>
                <a:ea typeface="华文隶书"/>
              </a:rPr>
              <a:t>单元小结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108000" y="1700280"/>
            <a:ext cx="9720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英文姓名的构成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he 1st name + the middle name(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常略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)+the last /family          name =full nam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人名有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First name→ Amy, Peter, Grace, Bill, Mark, Lisa, Mary, Bob, Bruce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等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Last name→ Smith, Green, Jones, Cooper, Lim, LOCKE, Mitchell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等。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4221000"/>
            <a:ext cx="85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、学习从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zero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nine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共十个英文数字，学习句型、电话号码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表达方式：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/ his / her phone number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5373720"/>
            <a:ext cx="83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、学习介绍自已及寻问他人姓名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My name is ….    What’s your name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24000" y="1287360"/>
            <a:ext cx="88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20f0"/>
                </a:solidFill>
                <a:latin typeface="Times New Roman"/>
                <a:ea typeface="华文新魏"/>
              </a:rPr>
              <a:t>英美人如何表达“上厕所”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在英美国家，一般人忌讳说Ｗ．Ｃ（厕所）。要询问别人“厕所在哪里？”时，常委婉地说：“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Where can I wash my hands?” “Where is the restroom?”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如果是女士可以说“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Where is the powder room?”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另外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restroom ,toilet, bathroom, washroom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都可指盥洗间，也可指厕所。在美国的学校厕所上用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Boy’s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Girl’s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来表示男厕和女厕，公共厕所上多用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Gentlemen’s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Ladies’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John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是男子的名字，如果小写成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john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便指“厕所”了。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Where’s john?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在美国大多是指“厕所在哪里？”英国人常在口语中用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loo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表示私人住宅的厕所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美国的公厕往往不在路边建筑物内，而是在汽车加油站。在市内，可以到旅馆、咖啡馆或剧院错用，公厕一般要收费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87280" y="115920"/>
            <a:ext cx="37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3c08"/>
                </a:solidFill>
                <a:latin typeface="Times New Roman"/>
                <a:ea typeface="华文行楷"/>
              </a:rPr>
              <a:t>Global Walking</a:t>
            </a:r>
            <a:r>
              <a:rPr b="0" lang="zh-CN" sz="4000" spc="-1" strike="noStrike">
                <a:solidFill>
                  <a:srgbClr val="e43c08"/>
                </a:solidFill>
                <a:latin typeface="Arial"/>
                <a:ea typeface="华文行楷"/>
              </a:rPr>
              <a:t>异域风情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7607160" y="0"/>
            <a:ext cx="123048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762120"/>
            <a:ext cx="4495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o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Hello. What’s your name 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n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My name’s Jenny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o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I’m Tony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Nice to meet you ,Ton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762120"/>
            <a:ext cx="42670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ill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What’s his name 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ia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His name is Tony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ill: 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And what’s her name 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ia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Her name is Jenn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429000"/>
            <a:ext cx="464832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ob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Excuse me, are you Mark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k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Yes, I am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ob: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I’m Bob. Nice to meet you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k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Nice to meet you, too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429000"/>
            <a:ext cx="4572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eacher: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Good morning,boys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               and girls. My name’s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                Linda.  What’s you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name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Jim:        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My name’s Jim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eacher: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And what’s your name?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y:    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My name’s Mary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2627280" y="189000"/>
            <a:ext cx="252108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bf747"/>
                </a:solidFill>
                <a:latin typeface="Arial Black"/>
                <a:ea typeface="华文隶书"/>
              </a:rPr>
              <a:t>快乐口语吧 </a:t>
            </a:r>
            <a:r>
              <a:rPr b="0" lang="zh-CN" sz="3200" spc="-1" strike="noStrike">
                <a:solidFill>
                  <a:srgbClr val="4bf747"/>
                </a:solidFill>
                <a:latin typeface="Arial Black"/>
                <a:ea typeface="华文隶书"/>
              </a:rPr>
              <a:t>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6080"/>
            <a:ext cx="2556000" cy="790560"/>
          </a:xfrm>
          <a:prstGeom prst="cloudCallout">
            <a:avLst>
              <a:gd name="adj1" fmla="val 17018"/>
              <a:gd name="adj2" fmla="val 70481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34f"/>
                </a:solidFill>
                <a:latin typeface="Arial"/>
              </a:rPr>
              <a:t>Section A 2a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95280" y="476280"/>
            <a:ext cx="57150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Family name and Last name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76040" y="1773360"/>
            <a:ext cx="4324680" cy="3538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319280" cy="3533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1908000" y="56358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思考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: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两个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ill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是一家吗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3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-324000" y="1914480"/>
            <a:ext cx="4680000" cy="38289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4284720" y="1868400"/>
            <a:ext cx="4859280" cy="39769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116000" y="692280"/>
            <a:ext cx="33116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f747"/>
                </a:solidFill>
                <a:latin typeface="Arial Black"/>
                <a:ea typeface="华文隶书"/>
              </a:rPr>
              <a:t>请说出他们的名、姓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3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11280" y="1413000"/>
            <a:ext cx="828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first  name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（名）     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Surname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（姓氏）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=   given   name           = family name=last na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Bill                               Clint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Bill                               G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George                          Bush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David                             Beckha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71640" y="404640"/>
            <a:ext cx="403200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103"/>
                </a:solidFill>
                <a:latin typeface="Arial Black"/>
                <a:ea typeface="华文隶书"/>
              </a:rPr>
              <a:t>英语国家人名分析图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68360" y="1484280"/>
            <a:ext cx="8675640" cy="4321080"/>
            <a:chOff x="468360" y="1484280"/>
            <a:chExt cx="8675640" cy="4321080"/>
          </a:xfrm>
        </p:grpSpPr>
        <p:grpSp>
          <p:nvGrpSpPr>
            <p:cNvPr id="415" name=""/>
            <p:cNvGrpSpPr/>
            <p:nvPr/>
          </p:nvGrpSpPr>
          <p:grpSpPr>
            <a:xfrm>
              <a:off x="468360" y="1484280"/>
              <a:ext cx="8675640" cy="4321080"/>
              <a:chOff x="468360" y="1484280"/>
              <a:chExt cx="8675640" cy="4321080"/>
            </a:xfrm>
          </p:grpSpPr>
          <p:cxnSp>
            <p:nvCxnSpPr>
              <p:cNvPr id="416" name="_s77854"/>
              <p:cNvCxnSpPr>
                <a:endCxn id="417" idx="2"/>
              </p:cNvCxnSpPr>
              <p:nvPr/>
            </p:nvCxnSpPr>
            <p:spPr>
              <a:xfrm flipV="1" rot="16200000">
                <a:off x="7324920" y="4833720"/>
                <a:ext cx="1245240" cy="18360"/>
              </a:xfrm>
              <a:prstGeom prst="bentConnector3">
                <a:avLst>
                  <a:gd name="adj1" fmla="val 9167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18" name="_s77852"/>
              <p:cNvCxnSpPr/>
              <p:nvPr/>
            </p:nvCxnSpPr>
            <p:spPr>
              <a:xfrm flipV="1" rot="16200000">
                <a:off x="4103280" y="4760280"/>
                <a:ext cx="1008720" cy="72360"/>
              </a:xfrm>
              <a:prstGeom prst="bentConnector3">
                <a:avLst>
                  <a:gd name="adj1" fmla="val 11317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19" name="_s77850"/>
              <p:cNvCxnSpPr>
                <a:endCxn id="420" idx="2"/>
              </p:cNvCxnSpPr>
              <p:nvPr/>
            </p:nvCxnSpPr>
            <p:spPr>
              <a:xfrm flipH="1" flipV="1" rot="5400000">
                <a:off x="1176840" y="4697640"/>
                <a:ext cx="1100880" cy="146880"/>
              </a:xfrm>
              <a:prstGeom prst="bentConnector3">
                <a:avLst>
                  <a:gd name="adj1" fmla="val 10369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1" name="_s77848"/>
              <p:cNvCxnSpPr/>
              <p:nvPr/>
            </p:nvCxnSpPr>
            <p:spPr>
              <a:xfrm flipV="1">
                <a:off x="610920" y="3283920"/>
                <a:ext cx="1189800" cy="59760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2" name="_s77846"/>
              <p:cNvCxnSpPr>
                <a:stCxn id="417" idx="0"/>
              </p:cNvCxnSpPr>
              <p:nvPr/>
            </p:nvCxnSpPr>
            <p:spPr>
              <a:xfrm flipV="1" rot="16200000">
                <a:off x="6903360" y="2753640"/>
                <a:ext cx="648360" cy="142308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3" name="_s77844"/>
              <p:cNvCxnSpPr/>
              <p:nvPr/>
            </p:nvCxnSpPr>
            <p:spPr>
              <a:xfrm flipV="1">
                <a:off x="3780000" y="3212280"/>
                <a:ext cx="1187640" cy="756360"/>
              </a:xfrm>
              <a:prstGeom prst="bentConnector3">
                <a:avLst>
                  <a:gd name="adj1" fmla="val 71134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4" name="_s77842"/>
              <p:cNvCxnSpPr>
                <a:stCxn id="425" idx="0"/>
              </p:cNvCxnSpPr>
              <p:nvPr/>
            </p:nvCxnSpPr>
            <p:spPr>
              <a:xfrm flipV="1" rot="16200000">
                <a:off x="5040720" y="1519200"/>
                <a:ext cx="432720" cy="194544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6" name="_s77834"/>
              <p:cNvCxnSpPr>
                <a:stCxn id="427" idx="0"/>
              </p:cNvCxnSpPr>
              <p:nvPr/>
            </p:nvCxnSpPr>
            <p:spPr>
              <a:xfrm flipH="1" flipV="1" rot="5400000">
                <a:off x="3078000" y="1574280"/>
                <a:ext cx="505800" cy="190872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sp>
            <p:nvSpPr>
              <p:cNvPr id="428" name="_s77830"/>
              <p:cNvSpPr/>
              <p:nvPr/>
            </p:nvSpPr>
            <p:spPr>
              <a:xfrm>
                <a:off x="2987640" y="1484280"/>
                <a:ext cx="2665440" cy="63504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040" rIns="41040" tIns="20520" bIns="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</a:t>
                </a:r>
                <a:r>
                  <a:rPr b="1" lang="en-US" sz="900" spc="-1" strike="noStrike">
                    <a:solidFill>
                      <a:srgbClr val="1a75da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full</a:t>
                </a:r>
                <a:r>
                  <a:rPr b="1" lang="en-US" sz="900" spc="-1" strike="noStrike">
                    <a:solidFill>
                      <a:srgbClr val="1a75da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7" name="_s77831"/>
              <p:cNvSpPr/>
              <p:nvPr/>
            </p:nvSpPr>
            <p:spPr>
              <a:xfrm>
                <a:off x="900360" y="2781360"/>
                <a:ext cx="2950920" cy="49356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040" rIns="41040" tIns="20520" bIns="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given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5" name="_s77841"/>
              <p:cNvSpPr/>
              <p:nvPr/>
            </p:nvSpPr>
            <p:spPr>
              <a:xfrm>
                <a:off x="4932360" y="2708280"/>
                <a:ext cx="2592360" cy="493560"/>
              </a:xfrm>
              <a:prstGeom prst="roundRect">
                <a:avLst>
                  <a:gd name="adj" fmla="val 4093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320" rIns="58320" tIns="29160" bIns="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 family 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9" name="_s77843"/>
              <p:cNvSpPr/>
              <p:nvPr/>
            </p:nvSpPr>
            <p:spPr>
              <a:xfrm>
                <a:off x="3564000" y="3644640"/>
                <a:ext cx="2665440" cy="64800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0200" rIns="702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 middle 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7" name="_s77845"/>
              <p:cNvSpPr/>
              <p:nvPr/>
            </p:nvSpPr>
            <p:spPr>
              <a:xfrm>
                <a:off x="6732720" y="3789360"/>
                <a:ext cx="241128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840" rIns="8784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 last 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0" name="_s77847"/>
              <p:cNvSpPr/>
              <p:nvPr/>
            </p:nvSpPr>
            <p:spPr>
              <a:xfrm>
                <a:off x="468360" y="3717720"/>
                <a:ext cx="266400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first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0" name="_s77849"/>
              <p:cNvSpPr/>
              <p:nvPr/>
            </p:nvSpPr>
            <p:spPr>
              <a:xfrm>
                <a:off x="827280" y="5084640"/>
                <a:ext cx="1511280" cy="50472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Games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1" name="_s77851"/>
              <p:cNvSpPr/>
              <p:nvPr/>
            </p:nvSpPr>
            <p:spPr>
              <a:xfrm>
                <a:off x="3851280" y="5229000"/>
                <a:ext cx="1440000" cy="576360"/>
              </a:xfrm>
              <a:prstGeom prst="roundRect">
                <a:avLst>
                  <a:gd name="adj" fmla="val 50000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Allan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2" name="_s77853"/>
              <p:cNvSpPr/>
              <p:nvPr/>
            </p:nvSpPr>
            <p:spPr>
              <a:xfrm>
                <a:off x="7236000" y="5084640"/>
                <a:ext cx="1584360" cy="720720"/>
              </a:xfrm>
              <a:prstGeom prst="roundRect">
                <a:avLst>
                  <a:gd name="adj" fmla="val 50000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Green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4284720" y="2133720"/>
              <a:ext cx="0" cy="1429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95280" y="1066680"/>
            <a:ext cx="7704000" cy="57913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684360" y="333360"/>
            <a:ext cx="2592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轻松学英语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207280" y="5805360"/>
            <a:ext cx="936720" cy="405000"/>
          </a:xfrm>
          <a:custGeom>
            <a:avLst/>
            <a:gdLst>
              <a:gd name="textAreaLeft" fmla="*/ 144360 w 936720"/>
              <a:gd name="textAreaRight" fmla="*/ 698400 w 936720"/>
              <a:gd name="textAreaTop" fmla="*/ 54000 h 405000"/>
              <a:gd name="textAreaBottom" fmla="*/ 35100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0926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91280" cy="55450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26920" y="404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  <a:ea typeface="华文隶书"/>
              </a:rPr>
              <a:t>口语套餐 入乡随俗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1647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1:58:29Z</dcterms:created>
  <dc:creator>user</dc:creator>
  <dc:description/>
  <dc:language>en-US</dc:language>
  <cp:lastModifiedBy>luomingjiang</cp:lastModifiedBy>
  <dcterms:modified xsi:type="dcterms:W3CDTF">2005-09-17T00:21:59Z</dcterms:modified>
  <cp:revision>51</cp:revision>
  <dc:subject/>
  <dc:title>幻灯片 1</dc:title>
</cp:coreProperties>
</file>